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6D7-8127-4ED6-B555-CE95EF40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11A-0A7E-416B-A96B-F3AF7D65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CE6-554F-44DC-A21B-2DEAD334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900-265F-45F9-B4E0-8F566E94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13E-618C-4214-943B-BEFF4D73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7EB-B3CC-4946-860F-2B9F1526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93A-16D7-4E96-AA53-E73CFE26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87F-C2FC-4563-924E-5D44A437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ECF-1F3F-4099-86F3-92FCC55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60C-3232-4CAB-836D-C9A2C75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B73-3A58-4D40-A52B-698D2FC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DD8-E027-4FBE-A41D-1FA51813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D998-B043-4AC3-97D6-ACE47C09FA7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entury Gothic"/>
              </a:rPr>
              <a:t>Автор: Печерская Ю.А.,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Gothic"/>
              </a:rPr>
              <a:t>студентка 4 курса филологического факультета КГП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Gothic"/>
              </a:rPr>
              <a:t>2010 г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2279520" y="487440"/>
            <a:ext cx="460872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MCj04337970000[1]"/>
          <p:cNvPicPr/>
          <p:nvPr/>
        </p:nvPicPr>
        <p:blipFill>
          <a:blip r:embed="rId1"/>
          <a:stretch/>
        </p:blipFill>
        <p:spPr>
          <a:xfrm>
            <a:off x="3000240" y="2357280"/>
            <a:ext cx="39290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45" name="Заголовок 1"/>
          <p:cNvGrpSpPr/>
          <p:nvPr/>
        </p:nvGrpSpPr>
        <p:grpSpPr>
          <a:xfrm>
            <a:off x="268200" y="115920"/>
            <a:ext cx="8936280" cy="1809720"/>
            <a:chOff x="268200" y="115920"/>
            <a:chExt cx="8936280" cy="1809720"/>
          </a:xfrm>
        </p:grpSpPr>
        <p:pic>
          <p:nvPicPr>
            <p:cNvPr id="4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68200" y="115920"/>
              <a:ext cx="89362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entury Gothic"/>
                </a:rPr>
                <a:t>Основополагающий </a:t>
              </a:r>
              <a:br>
                <a:rPr sz="4000"/>
              </a:br>
              <a:r>
                <a:rPr b="0" lang="en-US" sz="4000" spc="-1" strike="noStrike">
                  <a:solidFill>
                    <a:srgbClr val="ff0000"/>
                  </a:solidFill>
                  <a:latin typeface="Century Gothic"/>
                </a:rPr>
                <a:t>вопрос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Какова сущность Божественно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Силы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9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Заголовок 1"/>
          <p:cNvGrpSpPr/>
          <p:nvPr/>
        </p:nvGrpSpPr>
        <p:grpSpPr>
          <a:xfrm>
            <a:off x="268200" y="115920"/>
            <a:ext cx="8936280" cy="1809720"/>
            <a:chOff x="268200" y="115920"/>
            <a:chExt cx="8936280" cy="1809720"/>
          </a:xfrm>
        </p:grpSpPr>
        <p:pic>
          <p:nvPicPr>
            <p:cNvPr id="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68200" y="115920"/>
              <a:ext cx="89362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000"/>
                  </a:solidFill>
                  <a:latin typeface="Century Gothic"/>
                </a:rPr>
                <a:t>Проблемные</a:t>
              </a:r>
              <a:br>
                <a:rPr sz="4000"/>
              </a:br>
              <a:r>
                <a:rPr b="0" lang="en-US" sz="4000" spc="-1" strike="noStrike">
                  <a:solidFill>
                    <a:srgbClr val="ffc000"/>
                  </a:solidFill>
                  <a:latin typeface="Century Gothic"/>
                </a:rPr>
                <a:t>вопросы: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Какие существуют религии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Почему люди начинают верить в Богов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Кого и что можно обожествлять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Какими бывают Боги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Чем управляют языческие Боги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268200" y="115920"/>
            <a:ext cx="8967960" cy="2462040"/>
            <a:chOff x="268200" y="115920"/>
            <a:chExt cx="8967960" cy="246204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68200" y="115920"/>
              <a:ext cx="8967960" cy="24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274680"/>
              <a:ext cx="8258040" cy="17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entury Gothic"/>
                </a:rPr>
                <a:t>Результаты исследования могут быть представлены в виде: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Газет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Бюллетен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entury Gothic"/>
              </a:rPr>
              <a:t>Web</a:t>
            </a: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-сайт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Сочинения, эсс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entury Gothic"/>
              </a:rPr>
              <a:t>Презентационного докла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268200" y="115920"/>
            <a:ext cx="8936280" cy="1809720"/>
            <a:chOff x="268200" y="115920"/>
            <a:chExt cx="8936280" cy="180972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68200" y="115920"/>
              <a:ext cx="89362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Подтемы:</a:t>
              </a:r>
              <a:endParaRPr b="0" lang="en-US" sz="4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Добрые Бог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Богини Древнего Египт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Демон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Священные животны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Мифы о Богах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Храмы Бого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8e03"/>
                </a:solidFill>
                <a:latin typeface="Century Gothic"/>
              </a:rPr>
              <a:t>Ритуальные обряд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db8e03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Заголовок 1"/>
          <p:cNvGrpSpPr/>
          <p:nvPr/>
        </p:nvGrpSpPr>
        <p:grpSpPr>
          <a:xfrm>
            <a:off x="268200" y="115920"/>
            <a:ext cx="8936280" cy="1809720"/>
            <a:chOff x="268200" y="115920"/>
            <a:chExt cx="8936280" cy="1809720"/>
          </a:xfrm>
        </p:grpSpPr>
        <p:pic>
          <p:nvPicPr>
            <p:cNvPr id="6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68200" y="115920"/>
              <a:ext cx="89362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030a0"/>
                  </a:solidFill>
                  <a:latin typeface="Century Gothic"/>
                </a:rPr>
                <a:t>Продолжительность проекта:</a:t>
              </a:r>
              <a:br>
                <a:rPr sz="4000"/>
              </a:br>
              <a:r>
                <a:rPr b="0" lang="en-US" sz="4000" spc="-1" strike="noStrike">
                  <a:solidFill>
                    <a:srgbClr val="ffffff"/>
                  </a:solidFill>
                  <a:latin typeface="Century Gothic"/>
                </a:rPr>
                <a:t>2-4 недели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64" name="Содержимое 3" descr=""/>
          <p:cNvPicPr/>
          <p:nvPr/>
        </p:nvPicPr>
        <p:blipFill>
          <a:blip r:embed="rId2"/>
          <a:stretch/>
        </p:blipFill>
        <p:spPr>
          <a:xfrm>
            <a:off x="438120" y="1584360"/>
            <a:ext cx="8358120" cy="456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Заголовок 1"/>
          <p:cNvGrpSpPr/>
          <p:nvPr/>
        </p:nvGrpSpPr>
        <p:grpSpPr>
          <a:xfrm>
            <a:off x="237960" y="128520"/>
            <a:ext cx="8936280" cy="1803600"/>
            <a:chOff x="237960" y="128520"/>
            <a:chExt cx="8936280" cy="1803600"/>
          </a:xfrm>
        </p:grpSpPr>
        <p:pic>
          <p:nvPicPr>
            <p:cNvPr id="6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37960" y="128520"/>
              <a:ext cx="893628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876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</a:rPr>
                <a:t>Информационные</a:t>
              </a:r>
              <a:br>
                <a:rPr sz="4000"/>
              </a:b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</a:rPr>
                <a:t>ресурсы: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entury Gothic"/>
              </a:rPr>
              <a:t>Учебники по МХ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entury Gothic"/>
              </a:rPr>
              <a:t>Энциклопед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entury Gothic"/>
              </a:rPr>
              <a:t>Научные журналы, газет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entury Gothic"/>
              </a:rPr>
              <a:t>Сайты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egypt2travel.co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egyptolog.ru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izuchaem.inf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egyptgod.ru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ww.godsbay.ru/egyp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8:34:29Z</dcterms:created>
  <dc:creator>XTreme</dc:creator>
  <dc:description/>
  <dc:language>en-US</dc:language>
  <cp:lastModifiedBy>студент</cp:lastModifiedBy>
  <dcterms:modified xsi:type="dcterms:W3CDTF">2010-04-02T10:40:34Z</dcterms:modified>
  <cp:revision>14</cp:revision>
  <dc:subject/>
  <dc:title>Слайд 1</dc:title>
</cp:coreProperties>
</file>